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D3E0-BA74-424A-B785-8F22B7191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742E-CD35-4E31-A1CF-8210A0EF9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87F3-883C-40C7-BAA6-9F7CA5F16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731E1-6133-45FE-B893-26EE18803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54325-18C2-4BDC-A19F-6357851BED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06848-D5DB-47B8-BF73-3C49A5711D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0CD6D-3C7C-407B-87BB-F7C4611D57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1A703-8279-42E3-A258-323387D038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509F3-4CD7-4FB5-829E-8B6B2547BF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98280"/>
            <a:ext cx="8229600" cy="69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A5605-488B-4325-AB1C-1F96560064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BCE72-AF57-4EAF-89A3-3F31C3C250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7FA8-0B44-43DA-B8DA-B650E85CB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B8678-6E39-4965-8028-32E65308BE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21E8C-2D2A-47E7-9314-6006A5575D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D45CE-9B16-4B9F-9B88-4DC0ED1D3D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654F4-E215-4F84-8620-2670B1AC02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5E96B-D0C2-4AC0-AA68-79E033482F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D022-712C-4E85-A887-2F6C4CE91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E77BF-3D38-4C0E-A75E-BAAD757BB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F182-EB1B-4D1F-B67E-7075AC6F4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8280"/>
            <a:ext cx="8229600" cy="69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C109-BF53-4C68-A156-79F20004D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0EB0-D204-46C1-B747-5335A61DD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8A07-EB97-4F76-B497-DC3DBBB56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2148-3624-4149-88BD-9EDBB9530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3939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SzPct val="8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700"/>
              </a:spcBef>
              <a:buClr>
                <a:srgbClr val="000000"/>
              </a:buClr>
              <a:buSzPct val="88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700"/>
              </a:spcBef>
              <a:buClr>
                <a:srgbClr val="000000"/>
              </a:buClr>
              <a:buSzPct val="88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700"/>
              </a:spcBef>
              <a:buClr>
                <a:srgbClr val="000000"/>
              </a:buClr>
              <a:buSzPct val="88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700"/>
              </a:spcBef>
              <a:buClr>
                <a:srgbClr val="000000"/>
              </a:buClr>
              <a:buSzPct val="88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75400" y="6421320"/>
            <a:ext cx="2844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EAA5-10F7-40EE-8C2A-08AA0F4FA0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3939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SzPct val="8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700"/>
              </a:spcBef>
              <a:buClr>
                <a:srgbClr val="000000"/>
              </a:buClr>
              <a:buSzPct val="88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700"/>
              </a:spcBef>
              <a:buClr>
                <a:srgbClr val="000000"/>
              </a:buClr>
              <a:buSzPct val="88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700"/>
              </a:spcBef>
              <a:buClr>
                <a:srgbClr val="000000"/>
              </a:buClr>
              <a:buSzPct val="88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700"/>
              </a:spcBef>
              <a:buClr>
                <a:srgbClr val="000000"/>
              </a:buClr>
              <a:buSzPct val="88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475400" y="6421320"/>
            <a:ext cx="2844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83FF-DB2F-4451-92FD-E5DA9E9BA9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3939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0760" cy="6856560"/>
            <a:chOff x="0" y="0"/>
            <a:chExt cx="9140760" cy="6856560"/>
          </a:xfrm>
        </p:grpSpPr>
        <p:sp>
          <p:nvSpPr>
            <p:cNvPr id="79" name="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8c8c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7a7a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383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7c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393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5" name="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9b9b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788080" y="4437360"/>
                <a:ext cx="3352680" cy="1103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393696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3939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9140760" cy="6856560"/>
            <a:chOff x="0" y="0"/>
            <a:chExt cx="9140760" cy="6856560"/>
          </a:xfrm>
        </p:grpSpPr>
        <p:sp>
          <p:nvSpPr>
            <p:cNvPr id="121" name="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8c8c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7a7a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383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7c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393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57" name="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9b9b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788080" y="4437360"/>
                <a:ext cx="3352680" cy="1103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What is the Magna Car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Means “Great Char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Series of written promises between the king and his sub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An attempt by the Barons of England to stop their King from abusing his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First issued in the year 12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3939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40760" cy="6856560"/>
            <a:chOff x="0" y="0"/>
            <a:chExt cx="9140760" cy="6856560"/>
          </a:xfrm>
        </p:grpSpPr>
        <p:sp>
          <p:nvSpPr>
            <p:cNvPr id="162" name="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8c8c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7a7a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383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7c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393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9b9b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88080" y="4437360"/>
                <a:ext cx="3352680" cy="1103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King John’s Mistake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1600200"/>
            <a:ext cx="407664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He wasn’t successful in his military campaig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Constant demand for more mone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n 1204 he lost his land to Northern Fr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He then introduced higher taxes with out asking the Ba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hat was against the law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304920" y="1600200"/>
            <a:ext cx="3870360" cy="44956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3939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0" y="0"/>
            <a:ext cx="9140760" cy="6856560"/>
            <a:chOff x="0" y="0"/>
            <a:chExt cx="9140760" cy="6856560"/>
          </a:xfrm>
        </p:grpSpPr>
        <p:sp>
          <p:nvSpPr>
            <p:cNvPr id="205" name="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8c8c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7a7a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383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7c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393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9b9b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788080" y="4437360"/>
                <a:ext cx="3352680" cy="1103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Because of King John’s behavior the Pope banned all church services in England in 1207 (1214 church services started ag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1214: John tried to go after Northern France, he demanded more money from taxes but the Barons said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7315200" y="4921200"/>
            <a:ext cx="1701720" cy="1936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152280" y="73080"/>
            <a:ext cx="1478160" cy="1527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3939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0" y="0"/>
            <a:ext cx="9140760" cy="6856560"/>
            <a:chOff x="0" y="0"/>
            <a:chExt cx="9140760" cy="6856560"/>
          </a:xfrm>
        </p:grpSpPr>
        <p:sp>
          <p:nvSpPr>
            <p:cNvPr id="247" name="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8c8c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7a7a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383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7c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393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9b9b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788080" y="4437360"/>
                <a:ext cx="3352680" cy="1103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-128520"/>
            <a:ext cx="882648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About the Magna Cart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20480"/>
            <a:ext cx="502920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It promised that laws would be good and f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Everyone will have access to courts-cost= no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No imprisonment without fair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5410080" y="1905120"/>
            <a:ext cx="3372120" cy="31716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3939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0" y="0"/>
            <a:ext cx="9140760" cy="6856560"/>
            <a:chOff x="0" y="0"/>
            <a:chExt cx="9140760" cy="6856560"/>
          </a:xfrm>
        </p:grpSpPr>
        <p:sp>
          <p:nvSpPr>
            <p:cNvPr id="289" name="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8c8c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7a7a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383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7c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393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9b9b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788080" y="4437360"/>
                <a:ext cx="3352680" cy="1103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The Baron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wenty five barons made sure the King carried out the Magna Carta fair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If the King did not the Barons could use force if nee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3454560" y="485136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25560" y="4915080"/>
            <a:ext cx="3200400" cy="24508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6095880" y="4648320"/>
            <a:ext cx="3048120" cy="1993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T Services</dc:creator>
  <dc:description/>
  <dc:language>en-US</dc:language>
  <cp:lastModifiedBy/>
  <cp:revision>0</cp:revision>
  <dc:subject/>
  <dc:title>Magna Carta</dc:title>
</cp:coreProperties>
</file>